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FC6-3533-4784-A013-52BFC798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48C6-42C8-45D1-B329-4C236485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C45-84A8-4977-9ED4-0F0141E5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EF8-FA25-4546-9EDE-D73F7F53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5CB5-A207-4647-BFDA-317A5A3D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91AD-5C8C-490A-B4E5-0C70C07D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3AFD-5C8A-47DA-9828-79FCA980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A7DD-8B59-462B-A6DF-1F02DD67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C78C-3860-4977-97FE-D75561B3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A0BF-FCC5-4A8D-B068-4AD25CB1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860B-8361-45EC-BCA0-A5964082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FF14-8A04-40D3-80DD-AD1FD37D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315D-76D2-4C23-BC92-3136348F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001A-4FE2-4D0C-B161-A33AC14B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F0FB-0145-4CCD-B375-B3D551E3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F4AB-51FE-4D5C-BC7B-1340C4A7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3557-F2B5-46EC-BBBB-2EC2C869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040A-059B-4BD5-8960-C1DA3451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DFC-F9F4-4126-B1BE-E513243F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C513-3146-4F06-88CA-F8D88467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C2A-79E3-41B2-A0F2-44DFADCC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713-948D-4AD2-BF86-53732E1A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A8C-4BE1-4BF3-9085-A03BED06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F1C-AC73-434D-BBB2-37E84578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7446-D133-4F5B-AF9D-BCA1820C189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FD94-44FF-4B9D-A7A6-11731097F94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PxWm31rApQ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l_fi" descr="4633"/>
          <p:cNvPicPr/>
          <p:nvPr/>
        </p:nvPicPr>
        <p:blipFill>
          <a:blip r:embed="rId2"/>
          <a:stretch/>
        </p:blipFill>
        <p:spPr>
          <a:xfrm>
            <a:off x="2514600" y="1143000"/>
            <a:ext cx="3809880" cy="5079960"/>
          </a:xfrm>
          <a:prstGeom prst="rect">
            <a:avLst/>
          </a:prstGeom>
          <a:ln w="0">
            <a:noFill/>
          </a:ln>
        </p:spPr>
      </p:pic>
      <p:sp>
        <p:nvSpPr>
          <p:cNvPr id="83" name="TextBox 8"/>
          <p:cNvSpPr/>
          <p:nvPr/>
        </p:nvSpPr>
        <p:spPr>
          <a:xfrm>
            <a:off x="1066680" y="304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Le patin : la danse sur le glac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2514600" y="63342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Marina anissin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df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l_fi" descr="2838304448_1"/>
          <p:cNvPicPr/>
          <p:nvPr/>
        </p:nvPicPr>
        <p:blipFill>
          <a:blip r:embed="rId1"/>
          <a:stretch/>
        </p:blipFill>
        <p:spPr>
          <a:xfrm>
            <a:off x="5943600" y="457200"/>
            <a:ext cx="2914560" cy="5734080"/>
          </a:xfrm>
          <a:prstGeom prst="rect">
            <a:avLst/>
          </a:prstGeom>
          <a:ln w="0">
            <a:noFill/>
          </a:ln>
        </p:spPr>
      </p:pic>
      <p:pic>
        <p:nvPicPr>
          <p:cNvPr id="86" name="il_fi" descr="110125093248130277"/>
          <p:cNvPicPr/>
          <p:nvPr/>
        </p:nvPicPr>
        <p:blipFill>
          <a:blip r:embed="rId2"/>
          <a:stretch/>
        </p:blipFill>
        <p:spPr>
          <a:xfrm>
            <a:off x="457200" y="380880"/>
            <a:ext cx="3238560" cy="48578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1981080" y="56386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a Famille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l_fi" descr="Mg_di1"/>
          <p:cNvPicPr/>
          <p:nvPr/>
        </p:nvPicPr>
        <p:blipFill>
          <a:blip r:embed="rId1"/>
          <a:stretch/>
        </p:blipFill>
        <p:spPr>
          <a:xfrm>
            <a:off x="380880" y="1219320"/>
            <a:ext cx="2133720" cy="2562120"/>
          </a:xfrm>
          <a:prstGeom prst="rect">
            <a:avLst/>
          </a:prstGeom>
          <a:ln w="0">
            <a:noFill/>
          </a:ln>
        </p:spPr>
      </p:pic>
      <p:pic>
        <p:nvPicPr>
          <p:cNvPr id="89" name="rg_hi" descr="ANd9GcR1X9sOe5JG3lOql_f6qOsFkuAYB1_gnp4EQZ4YCbYNhwZt6jdi"/>
          <p:cNvPicPr/>
          <p:nvPr/>
        </p:nvPicPr>
        <p:blipFill>
          <a:blip r:embed="rId2"/>
          <a:stretch/>
        </p:blipFill>
        <p:spPr>
          <a:xfrm>
            <a:off x="2895480" y="3276720"/>
            <a:ext cx="3124440" cy="1787400"/>
          </a:xfrm>
          <a:prstGeom prst="rect">
            <a:avLst/>
          </a:prstGeom>
          <a:ln w="0">
            <a:noFill/>
          </a:ln>
        </p:spPr>
      </p:pic>
      <p:pic>
        <p:nvPicPr>
          <p:cNvPr id="90" name="rg_hi" descr="ANd9GcSqhKuf6tXrJWyYKgryfSapGi64HpZxwIkvRmDOaqkO-WIEiGHC"/>
          <p:cNvPicPr/>
          <p:nvPr/>
        </p:nvPicPr>
        <p:blipFill>
          <a:blip r:embed="rId3"/>
          <a:stretch/>
        </p:blipFill>
        <p:spPr>
          <a:xfrm>
            <a:off x="6324480" y="4724280"/>
            <a:ext cx="2362320" cy="1694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1600200" y="38088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a Danse sur le glace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1371600" y="518148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rina Anissina et Gwendal Peizer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4.bp.blogspot.com/_2g2FOprQDC0/S_QbwUqYIrI/AAAAAAAAAIY/mVBL7EmLPVU/s1600/Figure+Skating.Alee+James10.jpg"/>
          <p:cNvPicPr/>
          <p:nvPr/>
        </p:nvPicPr>
        <p:blipFill>
          <a:blip r:embed="rId2"/>
          <a:stretch/>
        </p:blipFill>
        <p:spPr>
          <a:xfrm>
            <a:off x="1447920" y="1676520"/>
            <a:ext cx="2801880" cy="42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media.spokesman.com/photos/2010/01/15/srx_Skate_Fri26_t400.jpg?fd5af0684d698ce74dd4392bafb4f89a6dc66ee3"/>
          <p:cNvPicPr/>
          <p:nvPr/>
        </p:nvPicPr>
        <p:blipFill>
          <a:blip r:embed="rId3"/>
          <a:stretch/>
        </p:blipFill>
        <p:spPr>
          <a:xfrm>
            <a:off x="4800600" y="1752480"/>
            <a:ext cx="3809880" cy="4295880"/>
          </a:xfrm>
          <a:prstGeom prst="rect">
            <a:avLst/>
          </a:prstGeom>
          <a:ln w="0">
            <a:noFill/>
          </a:ln>
        </p:spPr>
      </p:pic>
      <p:sp>
        <p:nvSpPr>
          <p:cNvPr id="96" name="TextBox 8"/>
          <p:cNvSpPr/>
          <p:nvPr/>
        </p:nvSpPr>
        <p:spPr>
          <a:xfrm>
            <a:off x="304920" y="15238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 Antiqua"/>
              </a:rPr>
              <a:t>1.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63360" y="-635040"/>
            <a:ext cx="131472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8" descr="https://encrypted-tbn3.google.com/images?q=tbn:ANd9GcQRvro3-Z-v_a_OEjE7enwAB1WRnC63lnh4DNLwY_ahgvbOymngwg"/>
          <p:cNvPicPr/>
          <p:nvPr/>
        </p:nvPicPr>
        <p:blipFill>
          <a:blip r:embed="rId4"/>
          <a:stretch/>
        </p:blipFill>
        <p:spPr>
          <a:xfrm>
            <a:off x="3657600" y="47242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t1.gstatic.com/images?q=tbn:ANd9GcTMEpAF8qKYD19uEk1GpWXmNBCB4fpuqC5iA9sfdpLK2rFmzi-w"/>
          <p:cNvPicPr/>
          <p:nvPr/>
        </p:nvPicPr>
        <p:blipFill>
          <a:blip r:embed="rId2"/>
          <a:stretch/>
        </p:blipFill>
        <p:spPr>
          <a:xfrm>
            <a:off x="1523880" y="304920"/>
            <a:ext cx="3664080" cy="30812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1676520" y="396252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e6d"/>
                </a:solidFill>
                <a:latin typeface="Arial"/>
                <a:ea typeface="Arial"/>
              </a:rPr>
              <a:t>Obligatoire (compulsory) et une danse de choix libre (free choice danc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457200" y="1828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2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457200" y="4191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http://t0.gstatic.com/images?q=tbn:ANd9GcSKBhCYQHckyoavI_7L69_teBBjhGG2iP6i94ZzgfKACiGo4L8N"/>
          <p:cNvPicPr/>
          <p:nvPr/>
        </p:nvPicPr>
        <p:blipFill>
          <a:blip r:embed="rId2"/>
          <a:stretch/>
        </p:blipFill>
        <p:spPr>
          <a:xfrm>
            <a:off x="228600" y="2286000"/>
            <a:ext cx="2133720" cy="25909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/>
          <p:cNvSpPr/>
          <p:nvPr/>
        </p:nvSpPr>
        <p:spPr>
          <a:xfrm>
            <a:off x="63360" y="-863640"/>
            <a:ext cx="256248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63360" y="-863640"/>
            <a:ext cx="256248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63360" y="-863640"/>
            <a:ext cx="256248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14" descr="http://3.bp.blogspot.com/_h3HborB6LT8/Szvwqezse9I/AAAAAAAAFYQ/OverOT0ZL7k/s400/Oksana+Domnina+and+Maxim+Shabalin1.jpg"/>
          <p:cNvPicPr/>
          <p:nvPr/>
        </p:nvPicPr>
        <p:blipFill>
          <a:blip r:embed="rId3"/>
          <a:stretch/>
        </p:blipFill>
        <p:spPr>
          <a:xfrm>
            <a:off x="6477120" y="4038480"/>
            <a:ext cx="2361960" cy="2554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http://t2.gstatic.com/images?q=tbn:ANd9GcSdqRGmU6fZrjfgzW_IxVaOqXaIpYDYGgB2SrgIZnPT9oQnmtE8"/>
          <p:cNvPicPr/>
          <p:nvPr/>
        </p:nvPicPr>
        <p:blipFill>
          <a:blip r:embed="rId4"/>
          <a:stretch/>
        </p:blipFill>
        <p:spPr>
          <a:xfrm>
            <a:off x="4800600" y="2514600"/>
            <a:ext cx="1955880" cy="18288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8"/>
          <p:cNvSpPr/>
          <p:nvPr/>
        </p:nvSpPr>
        <p:spPr>
          <a:xfrm>
            <a:off x="63360" y="-1268280"/>
            <a:ext cx="17431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63360" y="-1268280"/>
            <a:ext cx="17431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22" descr="http://t1.gstatic.com/images?q=tbn:ANd9GcRDGu75WP2OYY_BjvdJzf9VQ6o59xjQn0H9gvqj6aHsEQCvsLxr"/>
          <p:cNvPicPr/>
          <p:nvPr/>
        </p:nvPicPr>
        <p:blipFill>
          <a:blip r:embed="rId5"/>
          <a:stretch/>
        </p:blipFill>
        <p:spPr>
          <a:xfrm>
            <a:off x="7010280" y="2514600"/>
            <a:ext cx="1812960" cy="1295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http://t1.gstatic.com/images?q=tbn:ANd9GcSL8ShBHeTcJo_MTLwfPLTmmGZabXq4eQwHCfb6UYPUa6figj-k"/>
          <p:cNvPicPr/>
          <p:nvPr/>
        </p:nvPicPr>
        <p:blipFill>
          <a:blip r:embed="rId6"/>
          <a:stretch/>
        </p:blipFill>
        <p:spPr>
          <a:xfrm>
            <a:off x="4876920" y="4572000"/>
            <a:ext cx="1371600" cy="19828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5"/>
          <p:cNvSpPr/>
          <p:nvPr/>
        </p:nvSpPr>
        <p:spPr>
          <a:xfrm>
            <a:off x="838080" y="17524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e6d"/>
                </a:solidFill>
                <a:latin typeface="Arial"/>
                <a:ea typeface="Arial"/>
              </a:rPr>
              <a:t>les ba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2666880" y="1752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e6d"/>
                </a:solidFill>
                <a:latin typeface="Arial"/>
                <a:ea typeface="Arial"/>
              </a:rPr>
              <a:t>les pati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TextBox 17"/>
          <p:cNvSpPr/>
          <p:nvPr/>
        </p:nvSpPr>
        <p:spPr>
          <a:xfrm>
            <a:off x="5029200" y="18288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e6d"/>
                </a:solidFill>
                <a:latin typeface="Arial"/>
                <a:ea typeface="Arial"/>
              </a:rPr>
              <a:t>une costume habille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2" descr="http://t2.gstatic.com/images?q=tbn:ANd9GcQeC94wWtW7iGj5dp_8A2TmZQZciigODpdeQ2zW1oEUITdMHc_m"/>
          <p:cNvPicPr/>
          <p:nvPr/>
        </p:nvPicPr>
        <p:blipFill>
          <a:blip r:embed="rId7"/>
          <a:stretch/>
        </p:blipFill>
        <p:spPr>
          <a:xfrm>
            <a:off x="2743200" y="2209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6" descr="http://t2.gstatic.com/images?q=tbn:ANd9GcSe6tFWyoVwUvJQIkLUZ8z84aP2C4RuywhwTWwWkPIWCvGmFNwmDQ"/>
          <p:cNvPicPr/>
          <p:nvPr/>
        </p:nvPicPr>
        <p:blipFill>
          <a:blip r:embed="rId8"/>
          <a:stretch/>
        </p:blipFill>
        <p:spPr>
          <a:xfrm>
            <a:off x="2743200" y="3962520"/>
            <a:ext cx="1609560" cy="1609560"/>
          </a:xfrm>
          <a:prstGeom prst="rect">
            <a:avLst/>
          </a:prstGeom>
          <a:ln w="0">
            <a:noFill/>
          </a:ln>
        </p:spPr>
      </p:pic>
      <p:pic>
        <p:nvPicPr>
          <p:cNvPr id="118" name="Title 19" descr=""/>
          <p:cNvPicPr/>
          <p:nvPr/>
        </p:nvPicPr>
        <p:blipFill>
          <a:blip r:embed="rId9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e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0880" y="2437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1"/>
              </a:rPr>
              <a:t>http://www.youtube.com/watch?v=iPxWm31rApQ&amp;feature=rel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685800" y="8380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rina Anissina et Gwendal Peizerat – 2002 Olympics Original Dance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21:14:15Z</dcterms:created>
  <dc:creator>Inna</dc:creator>
  <dc:description/>
  <dc:language>en-US</dc:language>
  <cp:lastModifiedBy>Inna</cp:lastModifiedBy>
  <dcterms:modified xsi:type="dcterms:W3CDTF">2011-12-07T00:54:53Z</dcterms:modified>
  <cp:revision>17</cp:revision>
  <dc:subject/>
  <dc:title>Slide 1</dc:title>
</cp:coreProperties>
</file>